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3B5-33FB-4EDB-A80B-D8F7D8B3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7DB2-15CF-419A-A198-74F488B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0F8-81C4-439E-9724-ED71FC2B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190F-1128-4637-A3CF-C4E6D671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D41-DFB4-4E01-A64A-8CDBDA5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09B-B296-4F9F-B892-6ABE6C3F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D38-14C3-44EC-9EFB-394DF764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BB99-B6D0-47C0-B287-D684BE2D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5F29-3984-47B7-AA1C-662DD4A3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DA3-1A77-462D-9BC9-A5B6289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B7A-9B69-4E57-B171-F92721FB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EBB-A241-40C1-9155-8ACE00EC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6F5D-1DB5-45B6-B7CE-930F42DCEC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4E30-CE3E-4C08-B260-E6AEB4F4CF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181480" cy="412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R fitting(dppcxr.par) and density profil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838760" y="3430440"/>
            <a:ext cx="4305240" cy="34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013-3443-4F03-9273-39FAF028C5D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AFC88-C6E5-422D-8CC6-9C92B9647A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33720" y="2438280"/>
            <a:ext cx="4952880" cy="39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GIXOS data(dppcgixos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xos calculated from XR fitting parameters (Dppcgixos1.par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FB5-E8D4-45A6-B15D-69C03B05B880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EB871-7525-4131-8FCE-B85C26C85B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248520" cy="460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Gidalevitz’s DPPC XR data(dppcxr.rrf)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nd GIXOS data(dppcgix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2BD-E65A-44AB-AEC0-58DED10F42B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8A198-119D-495B-AB66-8E1C0BAEF1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CB7-2BA1-45BA-B4C8-A0F39494802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9E689-CAEB-4034-B484-348E84AEBC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9AB-FA75-44A2-B6A4-6382FDCA905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F1846-680A-4324-8E75-9B4B003472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ling</cp:lastModifiedBy>
  <dcterms:modified xsi:type="dcterms:W3CDTF">2009-07-21T21:49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